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gif" ContentType="image/gif"/>
  <Override PartName="/ppt/media/image13.gif" ContentType="image/gif"/>
  <Override PartName="/ppt/media/image8.gif" ContentType="image/gif"/>
  <Override PartName="/ppt/media/image12.gif" ContentType="image/gif"/>
  <Override PartName="/ppt/media/image7.gif" ContentType="image/gif"/>
  <Override PartName="/ppt/media/image11.gif" ContentType="image/gif"/>
  <Override PartName="/ppt/media/image6.gif" ContentType="image/gif"/>
  <Override PartName="/ppt/media/image10.gif" ContentType="image/gif"/>
  <Override PartName="/ppt/media/image5.gif" ContentType="image/gif"/>
  <Override PartName="/ppt/media/image4.gif" ContentType="image/gif"/>
  <Override PartName="/ppt/media/image1.jpeg" ContentType="image/jpeg"/>
  <Override PartName="/ppt/media/image3.gif" ContentType="image/gif"/>
  <Override PartName="/ppt/media/image26.gif" ContentType="image/gif"/>
  <Override PartName="/ppt/media/image24.gif" ContentType="image/gif"/>
  <Override PartName="/ppt/media/image23.gif" ContentType="image/gif"/>
  <Override PartName="/ppt/media/image22.gif" ContentType="image/gif"/>
  <Override PartName="/ppt/media/image21.gif" ContentType="image/gif"/>
  <Override PartName="/ppt/media/image19.gif" ContentType="image/gif"/>
  <Override PartName="/ppt/media/image20.gif" ContentType="image/gif"/>
  <Override PartName="/ppt/media/image18.gif" ContentType="image/gif"/>
  <Override PartName="/ppt/media/image17.gif" ContentType="image/gif"/>
  <Override PartName="/ppt/media/image16.gif" ContentType="image/gif"/>
  <Override PartName="/ppt/media/image15.gif" ContentType="image/gif"/>
  <Override PartName="/ppt/media/image14.gif" ContentType="image/gif"/>
  <Override PartName="/ppt/media/image25.gif" ContentType="image/gif"/>
  <Override PartName="/ppt/media/image2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D8672-0DA3-4E97-83A7-7AFBD7FE4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4BB9C-717D-40AB-A942-92E870017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63A27-3DF0-48A5-98D1-D68D54B49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9DA67-974D-4DB9-88B1-F689CBB84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C8631-F5CC-4F29-9919-323ACE3ED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2A99D-82FD-4650-85E4-97E523CC3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7AB14-15D0-4091-9431-F0B6CEA5D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59235-85D4-485D-9403-712D2EA1C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80E79-CA3C-491B-97FF-998B129E3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DAD2B-A270-4E08-91A2-AC719E536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71CE0-38F0-4634-AEE5-7A1EB4C3F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CF7DB-A8B9-44F8-AEB2-D2D0C5B21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09554-E8CB-4CC7-AB26-FF65B9A2B1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447920" y="609480"/>
            <a:ext cx="419076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Animation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0" y="4267080"/>
            <a:ext cx="180036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Pivot Man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1295280"/>
            <a:ext cx="9144000" cy="42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52360" y="719280"/>
            <a:ext cx="8639280" cy="56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360" y="480960"/>
            <a:ext cx="912528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581040" y="762120"/>
            <a:ext cx="798192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23840" y="228600"/>
            <a:ext cx="88963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762120" y="644400"/>
            <a:ext cx="7772400" cy="581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914400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57200" y="1035000"/>
            <a:ext cx="8153280" cy="48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23840" y="561960"/>
            <a:ext cx="8715240" cy="57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38080" y="428760"/>
            <a:ext cx="7391520" cy="60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85800" y="533520"/>
            <a:ext cx="8458200" cy="573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352440" y="304920"/>
            <a:ext cx="843912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-9360" y="228600"/>
            <a:ext cx="916272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914400" y="615960"/>
            <a:ext cx="7086600" cy="581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4680" y="523800"/>
            <a:ext cx="9134640" cy="633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905832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066680" y="457200"/>
            <a:ext cx="7086600" cy="58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425520"/>
            <a:ext cx="9144000" cy="600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492120"/>
            <a:ext cx="7696440" cy="599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66560" y="824040"/>
            <a:ext cx="8210880" cy="52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762120" y="304920"/>
            <a:ext cx="761976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90360" y="457200"/>
            <a:ext cx="896328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82296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3480" y="228600"/>
            <a:ext cx="907704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4T20:46:43Z</dcterms:created>
  <dc:creator>Patrick J. Mooney</dc:creator>
  <dc:description/>
  <dc:language>en-US</dc:language>
  <cp:lastModifiedBy>Patrick J. Mooney</cp:lastModifiedBy>
  <dcterms:modified xsi:type="dcterms:W3CDTF">2010-01-06T23:02:23Z</dcterms:modified>
  <cp:revision>5</cp:revision>
  <dc:subject/>
  <dc:title>Slide 1</dc:title>
</cp:coreProperties>
</file>